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DF4-1D9A-4683-B0FF-8F5D7EC5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7DE-3EBA-4B1C-ABA0-DAF72EF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F4B-13F1-466B-A22B-3AFB75A5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46F-FBF6-42F3-9616-FB93F916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467-1E66-4DB0-8A50-F5BE2EA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504-5260-4D1E-8A25-44F17BC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73E-F022-422A-A462-EB8ACAF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E48-15EE-491B-A366-7F94C03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151-965F-45DB-B8AD-305E142B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227-179F-4188-A67D-96ACF3B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693-FE37-4878-8B4F-BE1430B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456-A340-4A6E-BB2B-FA13766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5DDA-02CA-403C-B3E0-9E97B0099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 DE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GREG CHEET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5029200" cy="486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645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P SHAKE Caused by the delamination of around the growth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01200">
            <a:off x="5579640" y="4652640"/>
            <a:ext cx="504720" cy="1224000"/>
          </a:xfrm>
          <a:prstGeom prst="upArrow">
            <a:avLst>
              <a:gd name="adj1" fmla="val 50000"/>
              <a:gd name="adj2" fmla="val 60628"/>
            </a:avLst>
          </a:prstGeom>
          <a:solidFill>
            <a:srgbClr val="ec42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404640"/>
            <a:ext cx="252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K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5707080" cy="524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8901200">
            <a:off x="5866920" y="4076280"/>
            <a:ext cx="505080" cy="1224000"/>
          </a:xfrm>
          <a:prstGeom prst="upArrow">
            <a:avLst>
              <a:gd name="adj1" fmla="val 50000"/>
              <a:gd name="adj2" fmla="val 60584"/>
            </a:avLst>
          </a:prstGeom>
          <a:solidFill>
            <a:srgbClr val="ec42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716280"/>
            <a:ext cx="205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RT SHAKE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used by the delamination along the medulary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476280"/>
            <a:ext cx="2232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RT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K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6048360" cy="541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8901200">
            <a:off x="5579640" y="4365360"/>
            <a:ext cx="504720" cy="1224000"/>
          </a:xfrm>
          <a:prstGeom prst="upArrow">
            <a:avLst>
              <a:gd name="adj1" fmla="val 50000"/>
              <a:gd name="adj2" fmla="val 60628"/>
            </a:avLst>
          </a:prstGeom>
          <a:solidFill>
            <a:srgbClr val="ec42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05360"/>
            <a:ext cx="201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 SHAK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by multiple delamination in the medullary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476280"/>
            <a:ext cx="21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AR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K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860640" cy="203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114720" cy="1438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905200" cy="15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580000" y="4941720"/>
            <a:ext cx="2714760" cy="104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9528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IMBER MOVE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777080" cy="282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332000" y="620640"/>
            <a:ext cx="662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THER DEFEC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55640" y="476280"/>
            <a:ext cx="727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NOTS AND GUM VEI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032360" cy="176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191120" cy="300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1280" y="4035600"/>
            <a:ext cx="3456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2:25:48Z</dcterms:created>
  <dc:creator>gcheetham</dc:creator>
  <dc:description/>
  <dc:language>en-US</dc:language>
  <cp:lastModifiedBy>gcheetham</cp:lastModifiedBy>
  <dcterms:modified xsi:type="dcterms:W3CDTF">2005-03-16T03:07:01Z</dcterms:modified>
  <cp:revision>2</cp:revision>
  <dc:subject/>
  <dc:title>TIMBER DEFECTS</dc:title>
</cp:coreProperties>
</file>